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C76-32CA-4F88-9AA0-43EC29A2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D1F-D263-450B-BCCB-D05E876E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E19-03EA-402C-9F09-D7B17EC5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C6D-6530-4431-99F5-7CC9F9D1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A7C-325D-4E30-A3F7-A98D0C20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028-77C4-467D-8B8C-E7583CC8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AD7-207A-4110-B804-2A48111F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C59-4495-4143-9127-301AFED4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6A3-6EC5-462F-BBE6-F1A99B03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D51-7C3D-4B6D-8411-F2F147C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37A-0175-446F-97A6-13565D50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40F-BB5D-461C-98A1-C3A08D27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6195-5245-4360-A6B8-BB328FFAB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Parts of a Boo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4724280"/>
            <a:ext cx="125100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0" y="2590920"/>
            <a:ext cx="1251000" cy="144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52880" y="2590920"/>
            <a:ext cx="1251000" cy="1447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819520" y="2666880"/>
            <a:ext cx="1251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62120" y="2743200"/>
            <a:ext cx="1251000" cy="1447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315200" y="4648320"/>
            <a:ext cx="1251000" cy="144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334120" y="4572000"/>
            <a:ext cx="125100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048120" y="4648320"/>
            <a:ext cx="125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219320"/>
            <a:ext cx="822960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ory remark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ppear at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ont of the book before the main tex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ollowing book parts all introduce the book to the reader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eword, Prefa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2860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438280"/>
            <a:ext cx="281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w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 introductory remark at the beginning of a book written by someone other that the author. It introduces or praises th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133720"/>
            <a:ext cx="175248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E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roughout the history of mankind stories have played a  part in learning at all levels.  This book follows that traditio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san Wrigh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ptember 200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228600"/>
            <a:ext cx="3200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ef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 introductory remark at the beginning of a book. It explains the origins and history of the book written by the auth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21337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F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0481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asons that I wrote this book are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457200"/>
            <a:ext cx="266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9718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ntroduc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short summary or explanation of th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2590920"/>
            <a:ext cx="198108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ople often ask, “Where do you find stories?” Stories are everywhere: in books and newspapers, in the movies, in everyday events, in dreams, in the minds and mouths of people, and, above all, in our own liv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380880"/>
            <a:ext cx="289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7432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9718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knowledg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list of everyone who helped the author produce th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2743200"/>
            <a:ext cx="1905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all  people who ask me where I found the stories and metaphors that I use in my work. Their sheer persistence and refusal to go out and find their own stories encouraged me to start work on my first draf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80880"/>
            <a:ext cx="3200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438280"/>
            <a:ext cx="26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ble of Cont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es after the Dedication Page. It is a list of the book’s contents, arranged in order by chapters or s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5880" y="2895480"/>
            <a:ext cx="2133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ks I Love…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ry Time……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rary Time…..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Report…….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228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2743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2666880"/>
            <a:ext cx="19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80880"/>
            <a:ext cx="403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Main Text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666880"/>
            <a:ext cx="26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ook will conta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apter Head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lots of paragraphs each with a topic sentence and oftentim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ld Pr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xed Tex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429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 Extra Bold"/>
              </a:rPr>
              <a:t>BOLD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4419720"/>
            <a:ext cx="14479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xed Tex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251460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hea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ld Pr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title, subtitle, or topic that starts a specific section of information in the main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335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Main  Text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35440" y="175248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83120" y="2209680"/>
            <a:ext cx="173052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i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Econo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 diverse and stro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20574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22860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2743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2743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ubh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2514600"/>
            <a:ext cx="266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ps, Char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ra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a nonfiction book display information or data in the form of pictures, drawings or out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80880"/>
            <a:ext cx="403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Main Text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114800" y="3276720"/>
            <a:ext cx="1476360" cy="1477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705720" y="2438280"/>
            <a:ext cx="1000080" cy="1295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629400" y="4191120"/>
            <a:ext cx="1374840" cy="1139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384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3733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4920" y="266688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p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itle, short explanation, or description accompanying an illustration or a phot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2860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Main Text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886200" y="2819520"/>
            <a:ext cx="1981080" cy="1307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86200" y="42670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The Taj Mahal in 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Welcome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the SMS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day you will learn all about the parts of a book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.1.6.4 Recognize source of information in different parts of a book: (eg: title page, table of contents, index, glossary, Verso page, appendix, dedication page, preface/foreward, author information, bibliography, blurb, afterw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1. 6.5 Us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ext featur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locate information that answers questions: (eg: topic sentences, captions, bold print, chapter headings, subheading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30492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Back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5909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ppendi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collection of important information like charts, tables, and other resources usually found in the back of th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251460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3048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48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276720"/>
            <a:ext cx="5335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429000"/>
            <a:ext cx="5335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38862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411480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ST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ficial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pit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ficial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8600" y="228600"/>
            <a:ext cx="3200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Back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2057400"/>
            <a:ext cx="29718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books have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oss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the back of the book. Glossaries are usually only found in nonfiction boo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oss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 alphabetical list of terms found in the book and their defin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20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2286000"/>
            <a:ext cx="198108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uh-DAPT)-to change to fit will in a particular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o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BYE-0hm)-large regions or areas in the owrld that have similar weather, soil, plants and aanim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nivo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KAHR-nuh-vor)-An animal that eats only m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2286000"/>
            <a:ext cx="198108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uh-DAPT)-to change to fit will in a particular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o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BYE-0hm)-large regions or areas in the owrld that have similar weather, soil, plants and aanim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nivo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KAHR-nuh-vor)-An animal that eats only m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358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Back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0880" y="2819520"/>
            <a:ext cx="266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de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n alphabetical list in the back of the book that lists the topics found in a book and what page numbers the topics are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2743200"/>
            <a:ext cx="213372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pine tundra,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tlers, 25 ,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ome, 5,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bber, 10,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ibou, 7, 19, 21, 25-31, 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920" y="457200"/>
            <a:ext cx="312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Back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5909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ibliograph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list of books, articles and other resources the author used in writing th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2590920"/>
            <a:ext cx="220968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nfield J, Hansen MV. Chicken Soup for the Soul. London: Vermillion, 200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rgan J, Rinvoulcri M. Once Upon a Time. Cambridge: Cambridge University Press, 198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inkola, Estes. C. Women Who Run with the Wolves. London: Rifer, 199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That’s All Fol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8080" y="5715000"/>
            <a:ext cx="74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boilerroom-equipment.com/images/ThatsAllFolks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477120" y="914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Front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Sp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00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Cal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26708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57913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6477120" y="205704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2590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38098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Author and Illu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6400800" y="320004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6172200" y="48769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The Outside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25909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590920" y="0"/>
            <a:ext cx="4125960" cy="6610320"/>
            <a:chOff x="2590920" y="0"/>
            <a:chExt cx="4125960" cy="66103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590920" y="0"/>
              <a:ext cx="4125960" cy="66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19734000">
              <a:off x="4627080" y="2723400"/>
              <a:ext cx="149652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 Love to 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722000">
              <a:off x="3871800" y="4042080"/>
              <a:ext cx="241884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Ima Wr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Illustrated 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Iman Art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7200">
              <a:off x="2964960" y="5103360"/>
              <a:ext cx="972360" cy="10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058000">
              <a:off x="2222280" y="3255120"/>
              <a:ext cx="20415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Times New Roman"/>
                </a:rPr>
                <a:t>I love to Rea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57200" y="2590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0481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The Outside of a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609560"/>
            <a:ext cx="2905200" cy="4553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9880" y="175248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time the outside of a book is covered with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ok Jacke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is is the paper or plastic coated covering of a book that is found on the outside of the book which features the title of the book, the author, a colorful photo, and often a brie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nop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summary of the book and some biographical information on the auth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45720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251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ntispie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on the left-hand page opposite the title page that might have an illustration or painting. Often found in biographies or history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2011320" cy="304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1981080"/>
            <a:ext cx="182880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ove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 Wr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llustra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n Art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k Maker Inc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ke Oswego, Oreg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362320"/>
            <a:ext cx="26668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books have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lf Title P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comes righ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the full Title Page. It tells us the title of the book only and usually has an illust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28600"/>
            <a:ext cx="365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352680" y="1676520"/>
            <a:ext cx="5308560" cy="4521240"/>
            <a:chOff x="3352680" y="1676520"/>
            <a:chExt cx="5308560" cy="452124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3352680" y="1676520"/>
              <a:ext cx="530856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248160" y="281952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 Love To Re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010280" y="3810240"/>
              <a:ext cx="8301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240" y="266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81480" y="304812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304920" y="0"/>
            <a:ext cx="358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905120"/>
            <a:ext cx="25909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itle P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is at the beginning of a book, usually the second or third right-hand pag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itle P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tells us the same information as the front cover PLUS it tells us who the publisher is and where the publishing company is loca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486400" cy="46717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124080" y="1447920"/>
            <a:ext cx="4876560" cy="4108680"/>
            <a:chOff x="3124080" y="1447920"/>
            <a:chExt cx="4876560" cy="4108680"/>
          </a:xfrm>
        </p:grpSpPr>
        <p:sp>
          <p:nvSpPr>
            <p:cNvPr id="92" name=""/>
            <p:cNvSpPr/>
            <p:nvPr/>
          </p:nvSpPr>
          <p:spPr>
            <a:xfrm>
              <a:off x="5943240" y="1447920"/>
              <a:ext cx="205740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 Love To Re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ten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a Wr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llustrat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an 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 Maker Inc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ndy, Oreg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85840" y="220968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2160" y="28191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uthor and Illust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440" y="419076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bli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080" y="4571640"/>
              <a:ext cx="281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ce of Pub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8840" y="2590560"/>
              <a:ext cx="83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28840" y="3504960"/>
              <a:ext cx="83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5160" y="457164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5160" y="495288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191120" y="4343400"/>
            <a:ext cx="38088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4724280"/>
            <a:ext cx="38088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057400"/>
            <a:ext cx="236232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erso P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is the reverse or back of the Title Page. Sometimes it is called 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Copyright Pa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 tells us the year the book was published and other publishing and printing inform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1999 by Ima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, including the right of reproduction in whole or in part in any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286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381200" y="3009600"/>
            <a:ext cx="838440" cy="152640"/>
          </a:xfrm>
          <a:prstGeom prst="rightArrow">
            <a:avLst>
              <a:gd name="adj1" fmla="val 50000"/>
              <a:gd name="adj2" fmla="val 1373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5812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895480" y="1523880"/>
            <a:ext cx="6248520" cy="4521240"/>
            <a:chOff x="2895480" y="1523880"/>
            <a:chExt cx="6248520" cy="45212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809880" y="1523880"/>
              <a:ext cx="533412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895480" y="297144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opyright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5480" y="388584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8120" y="44956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380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905120"/>
            <a:ext cx="312408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Dedication P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usually comes right before or after the Title Page.  Sometimes the dedication is added to 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erso Pa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Dedicatio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s where the author and/or illustrator write a short statement thanking someone or a group of people for their support, help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nd inspi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72200" y="2209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 my family who inspired me and helped me write this b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2514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22:15:25Z</dcterms:created>
  <dc:creator>LOSD</dc:creator>
  <dc:description/>
  <dc:language>en-US</dc:language>
  <cp:lastModifiedBy>Marla Moore</cp:lastModifiedBy>
  <dcterms:modified xsi:type="dcterms:W3CDTF">2009-10-29T16:45:49Z</dcterms:modified>
  <cp:revision>89</cp:revision>
  <dc:subject/>
  <dc:title>Parts of A Book</dc:title>
</cp:coreProperties>
</file>